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569F-4927-451F-845E-42339740E4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12B5-3BD0-4869-841E-F3A12A4C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820-1D6C-486E-9886-4EB833AD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A20-ED78-49B8-98A2-14895E21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3C3-8543-4A8E-B85C-4C328E34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57D-8E07-48EB-8CDC-B5B5891A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B42-1C7E-468D-8E6A-4044C98C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F26-E28D-4D63-88EA-F66629E2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807-3EFB-4AF3-9554-A7579B42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153-ED80-4717-870E-3F92AF65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F246-CD17-4FB2-8C40-F4E3C279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BBA-B98E-4B49-9F6B-48601586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309-9FBB-46B6-AA1C-83B47962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8C76-8960-4C7C-93F9-CA365C6C6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1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24:33Z</dcterms:created>
  <dc:creator>OKCPS</dc:creator>
  <dc:description/>
  <dc:language>en-US</dc:language>
  <cp:lastModifiedBy>LEGION</cp:lastModifiedBy>
  <dcterms:modified xsi:type="dcterms:W3CDTF">2015-09-11T10:48:26Z</dcterms:modified>
  <cp:revision>7</cp:revision>
  <dc:subject/>
  <dc:title>Character Education</dc:title>
</cp:coreProperties>
</file>